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706-B12E-47F4-8EE8-EDEE1566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CC9-9EDC-41AF-B416-B8FBB000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E0F-42CD-408F-929A-4EA62E55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85C-2055-4F3E-A1FB-ED648458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733560" y="228240"/>
            <a:ext cx="52290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E80-7B1F-415F-B95F-D02753A8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43E-CAF6-47F8-A031-A0E66A8B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ED4-BCB8-450C-8448-EFE46F3D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C8B-A694-45AF-AF3D-CD9A4492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733560" y="228240"/>
            <a:ext cx="52290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525-1C6B-4AAE-88F8-C999153C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4DD-15CC-4179-B191-FABDE683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B8D-A4DD-48AE-B721-B91E4523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23F-CA3E-4B50-8611-95478840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301920" y="2449440"/>
            <a:ext cx="5822640" cy="4381560"/>
            <a:chOff x="3301920" y="2449440"/>
            <a:chExt cx="5822640" cy="4381560"/>
          </a:xfrm>
        </p:grpSpPr>
        <p:sp>
          <p:nvSpPr>
            <p:cNvPr id="1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731960" indent="-22860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139840" indent="-22860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139840" indent="-228600">
              <a:lnSpc>
                <a:spcPct val="95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139840" indent="-228600">
              <a:lnSpc>
                <a:spcPct val="95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dt" idx="1"/>
          </p:nvPr>
        </p:nvSpPr>
        <p:spPr>
          <a:xfrm>
            <a:off x="132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sldNum" idx="3"/>
          </p:nvPr>
        </p:nvSpPr>
        <p:spPr>
          <a:xfrm>
            <a:off x="6754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6572-4382-4F5A-B762-1A377E048A66}" type="slidenum"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304920" y="257040"/>
            <a:ext cx="1447560" cy="4287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71600" y="914400"/>
            <a:ext cx="77724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1332000" cy="6858000"/>
            <a:chOff x="0" y="0"/>
            <a:chExt cx="1332000" cy="6858000"/>
          </a:xfrm>
        </p:grpSpPr>
        <p:sp>
          <p:nvSpPr>
            <p:cNvPr id="79" name=""/>
            <p:cNvSpPr/>
            <p:nvPr/>
          </p:nvSpPr>
          <p:spPr>
            <a:xfrm>
              <a:off x="0" y="2832120"/>
              <a:ext cx="1332000" cy="4025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4a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30560" cy="288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3301920" y="2449440"/>
            <a:ext cx="5822640" cy="4381560"/>
            <a:chOff x="3301920" y="2449440"/>
            <a:chExt cx="5822640" cy="4381560"/>
          </a:xfrm>
        </p:grpSpPr>
        <p:sp>
          <p:nvSpPr>
            <p:cNvPr id="82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23960" y="1436400"/>
            <a:ext cx="715968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4"/>
          </p:nvPr>
        </p:nvSpPr>
        <p:spPr>
          <a:xfrm>
            <a:off x="3755880" y="6357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371600" y="6541920"/>
            <a:ext cx="1066680" cy="316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81080" algn="ctr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31760" algn="ctr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82440" algn="ctr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82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82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274320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3399"/>
                </a:solidFill>
                <a:latin typeface="Arial"/>
              </a:rPr>
              <a:t>ManTech Global Services</a:t>
            </a:r>
            <a:br>
              <a:rPr sz="3700"/>
            </a:br>
            <a:r>
              <a:rPr b="1" lang="en-US" sz="37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3700" spc="-1" strike="noStrike">
                <a:solidFill>
                  <a:srgbClr val="003399"/>
                </a:solidFill>
                <a:latin typeface="Arial"/>
              </a:rPr>
              <a:t> NATO Operations</a:t>
            </a:r>
            <a:br>
              <a:rPr sz="3700"/>
            </a:br>
            <a:br>
              <a:rPr sz="3700"/>
            </a:br>
            <a:br>
              <a:rPr sz="2900"/>
            </a:b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ODC’s Pricing Issue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16444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Important comparison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On many US contracts we can only charge M/H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676520"/>
            <a:ext cx="434340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Computer Equi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o be competitive on bids with large amounts of “Commodity “ computer equipment we must bid what the market will bear (2% -3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 other projects where we are sole-sourced or performing  in theater, we can get up to 20% f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669-FF22-4622-9FFF-DE6D3592DF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Foreign Currency – Exchange Rate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712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676520"/>
            <a:ext cx="53337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Exchange Rate Issu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contracts are NOT in US doll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Tech attempts to mitigate as much of the currency risk as possible by bidding in the currency in which we expect expenses to be incur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4A6-7210-410C-A0DA-4BA8D95DEC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Why Chase NATO Busines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76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NATO Ramps up as US and Coalition forces withdraw (Growing Market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ManTech holds a NATO/ NC3A BOA which restricts competition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NATO wants more US firms working on NATO projec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Real Money vs. IDIQ Contrac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16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ManTech has an EXCELLENT past performance with NATO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ManTech will perform in hostile environments where many European firms will no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Competitive advantage with Euro / Dollar exchange rate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Average Business Unit profit is over 15%</a:t>
            </a: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Less Formal RFP process and more room for negotiation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8AD-F123-4A96-81E9-BF138554CD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76920" y="928800"/>
            <a:ext cx="4141800" cy="2854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2280" y="1171440"/>
            <a:ext cx="4130640" cy="2867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477120" y="2071800"/>
            <a:ext cx="987480" cy="291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603440" y="2071800"/>
            <a:ext cx="987480" cy="291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50440" y="25146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TO R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1880" y="251460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TO For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733920"/>
            <a:ext cx="815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809880"/>
            <a:ext cx="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962520"/>
            <a:ext cx="3962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</a:rPr>
              <a:t>Brussels Offi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The ManTech Interface to U.S. Miss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Support Document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Pre-Qualification of Bids (Pro-Activ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Facilitate Customer Visi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Marketing/Customer Rel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Foreign Teaming Relationship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Customer intelligen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962520"/>
            <a:ext cx="4114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</a:rPr>
              <a:t>Colorado Spring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Intra-ManTech Coordination for NATO Bid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3399"/>
                </a:solidFill>
                <a:latin typeface="Arial"/>
              </a:rPr>
              <a:t>Team ManTech Approach to Bid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3399"/>
                </a:solidFill>
                <a:latin typeface="Arial"/>
              </a:rPr>
              <a:t>DSG, IS&amp;T, SM&amp;A, M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ITAR/EAR Review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Pre-Qualification of Bids (Pro-Activ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NATO Security/Clearance Coordin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NATO Proposal Suppor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NATO Biz / Ops, PM, CA, AP, AR and Finance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62197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ManTech NATO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Rear &amp; Forward</a:t>
            </a:r>
            <a:br>
              <a:rPr sz="2100"/>
            </a:b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Organizational Responsibilities</a:t>
            </a:r>
            <a:endParaRPr b="1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D2D-6DE7-4EB4-B515-B4647E2D28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6643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Firm Fixed Price (FFP) Proposal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Bid Bonds / Performance Bonds (Avg.10% of contract value) /Liquidated Damag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High use of Nationals of NATO nations as sub/consultants (Industrial Benefit Sharing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Export Control Compliance (TAA’s and export licenses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Pricing of large Material buy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Foreign Currency – Exchange Rat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657240" y="151920"/>
            <a:ext cx="53053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Differences  in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Doing Business With NATO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5C4-7ABF-44DA-9FB1-317C1AD2D6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Is Firm Fixed Price (FFP) Really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 Firm Fixed Price? 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191120" cy="45702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In a  NATO FFP proposal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west compliant bid normally wins -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NOT </a:t>
            </a: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“Best Value”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as in many US propos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owever, Best Value is being used on a very limited basis during a two-year trial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hen NATO funds a project the monies allocated can NOT be used for any other pro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us a project funded at $2m with a winning proposal of $1.5m leaves NATO an extra $.5m to use on the project (ECP’s awarded sole source to the contract hol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6890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34340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Is a NATO FFP contract renegotiable?- Ye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many FFP contracts we have gone back to NATO for additional compens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recent example would be the “Secure VTC “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e requested and were granted over $130K which equates to 10% of the entire contract val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14E-BCA5-4434-9E22-6A1FCA774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19520" y="39625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Aw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NATO Proposal Proces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29280" y="1473120"/>
            <a:ext cx="8291520" cy="4961160"/>
            <a:chOff x="629280" y="1473120"/>
            <a:chExt cx="8291520" cy="4961160"/>
          </a:xfrm>
        </p:grpSpPr>
        <p:sp>
          <p:nvSpPr>
            <p:cNvPr id="180" name=""/>
            <p:cNvSpPr/>
            <p:nvPr/>
          </p:nvSpPr>
          <p:spPr>
            <a:xfrm>
              <a:off x="629280" y="1579680"/>
              <a:ext cx="1546200" cy="157644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9280" y="1579680"/>
              <a:ext cx="1546200" cy="15764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160" y="1631880"/>
              <a:ext cx="1373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portunity  Identifi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7520" y="2617920"/>
              <a:ext cx="115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aming interest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25000" y="2781360"/>
              <a:ext cx="569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dentifi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1880" y="1973160"/>
              <a:ext cx="515880" cy="492120"/>
            </a:xfrm>
            <a:custGeom>
              <a:avLst/>
              <a:gdLst/>
              <a:ahLst/>
              <a:rect l="l" t="t" r="r" b="b"/>
              <a:pathLst>
                <a:path w="311" h="310">
                  <a:moveTo>
                    <a:pt x="78" y="0"/>
                  </a:moveTo>
                  <a:lnTo>
                    <a:pt x="78" y="233"/>
                  </a:lnTo>
                  <a:lnTo>
                    <a:pt x="0" y="233"/>
                  </a:lnTo>
                  <a:lnTo>
                    <a:pt x="156" y="310"/>
                  </a:lnTo>
                  <a:lnTo>
                    <a:pt x="311" y="233"/>
                  </a:lnTo>
                  <a:lnTo>
                    <a:pt x="233" y="233"/>
                  </a:lnTo>
                  <a:lnTo>
                    <a:pt x="23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487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91880" y="1973160"/>
              <a:ext cx="515880" cy="492120"/>
            </a:xfrm>
            <a:custGeom>
              <a:avLst/>
              <a:gdLst/>
              <a:ahLst/>
              <a:rect l="l" t="t" r="r" b="b"/>
              <a:pathLst>
                <a:path w="311" h="310">
                  <a:moveTo>
                    <a:pt x="78" y="0"/>
                  </a:moveTo>
                  <a:lnTo>
                    <a:pt x="78" y="233"/>
                  </a:lnTo>
                  <a:lnTo>
                    <a:pt x="0" y="233"/>
                  </a:lnTo>
                  <a:lnTo>
                    <a:pt x="156" y="310"/>
                  </a:lnTo>
                  <a:lnTo>
                    <a:pt x="311" y="233"/>
                  </a:lnTo>
                  <a:lnTo>
                    <a:pt x="233" y="233"/>
                  </a:lnTo>
                  <a:lnTo>
                    <a:pt x="233" y="0"/>
                  </a:lnTo>
                  <a:lnTo>
                    <a:pt x="78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8240" y="1473120"/>
              <a:ext cx="1469880" cy="1943280"/>
            </a:xfrm>
            <a:custGeom>
              <a:avLst/>
              <a:gdLst/>
              <a:ahLst/>
              <a:rect l="l" t="t" r="r" b="b"/>
              <a:pathLst>
                <a:path w="886" h="1224">
                  <a:moveTo>
                    <a:pt x="0" y="918"/>
                  </a:moveTo>
                  <a:lnTo>
                    <a:pt x="597" y="918"/>
                  </a:lnTo>
                  <a:lnTo>
                    <a:pt x="597" y="1224"/>
                  </a:lnTo>
                  <a:lnTo>
                    <a:pt x="886" y="612"/>
                  </a:lnTo>
                  <a:lnTo>
                    <a:pt x="597" y="0"/>
                  </a:lnTo>
                  <a:lnTo>
                    <a:pt x="597" y="306"/>
                  </a:lnTo>
                  <a:lnTo>
                    <a:pt x="0" y="306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89920" y="1473120"/>
              <a:ext cx="1438200" cy="1943280"/>
            </a:xfrm>
            <a:custGeom>
              <a:avLst/>
              <a:gdLst/>
              <a:ahLst/>
              <a:rect l="l" t="t" r="r" b="b"/>
              <a:pathLst>
                <a:path w="867" h="1224">
                  <a:moveTo>
                    <a:pt x="0" y="918"/>
                  </a:moveTo>
                  <a:lnTo>
                    <a:pt x="578" y="918"/>
                  </a:lnTo>
                  <a:lnTo>
                    <a:pt x="578" y="1224"/>
                  </a:lnTo>
                  <a:lnTo>
                    <a:pt x="867" y="612"/>
                  </a:lnTo>
                  <a:lnTo>
                    <a:pt x="578" y="0"/>
                  </a:lnTo>
                  <a:lnTo>
                    <a:pt x="578" y="306"/>
                  </a:lnTo>
                  <a:lnTo>
                    <a:pt x="0" y="30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83080" y="1962000"/>
              <a:ext cx="6480" cy="9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83080" y="1962000"/>
              <a:ext cx="6480" cy="965520"/>
            </a:xfrm>
            <a:prstGeom prst="rect">
              <a:avLst/>
            </a:prstGeom>
            <a:noFill/>
            <a:ln cap="rnd" w="9360">
              <a:solidFill>
                <a:srgbClr val="dde2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44280" y="203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3040" y="203184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FP Issu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4280" y="2197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1960" y="2197080"/>
              <a:ext cx="63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d no Bi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4280" y="2360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02960" y="236052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Bid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6680" y="2360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&amp;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9240" y="2360520"/>
              <a:ext cx="84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Performanc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52200" y="252576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Bond    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69840" y="268920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requirements review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88400" y="1579680"/>
              <a:ext cx="1546200" cy="157644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88400" y="1579680"/>
              <a:ext cx="1546200" cy="15764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95120" y="1878120"/>
              <a:ext cx="52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rite 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32240" y="187812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Shall”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12400" y="2043000"/>
              <a:ext cx="95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tements for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11040" y="220680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lian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04680" y="237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69480" y="2371680"/>
              <a:ext cx="1289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hat they asked for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40680" y="2535120"/>
              <a:ext cx="130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ot necessarily what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69720" y="270036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y ne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16920" y="270036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89040" y="1652760"/>
              <a:ext cx="1081440" cy="615600"/>
            </a:xfrm>
            <a:custGeom>
              <a:avLst/>
              <a:gdLst/>
              <a:ahLst/>
              <a:rect l="l" t="t" r="r" b="b"/>
              <a:pathLst>
                <a:path w="1613" h="960">
                  <a:moveTo>
                    <a:pt x="0" y="384"/>
                  </a:moveTo>
                  <a:lnTo>
                    <a:pt x="893" y="384"/>
                  </a:lnTo>
                  <a:cubicBezTo>
                    <a:pt x="973" y="384"/>
                    <a:pt x="1037" y="449"/>
                    <a:pt x="1037" y="528"/>
                  </a:cubicBezTo>
                  <a:cubicBezTo>
                    <a:pt x="1037" y="528"/>
                    <a:pt x="1037" y="528"/>
                    <a:pt x="1037" y="528"/>
                  </a:cubicBezTo>
                  <a:lnTo>
                    <a:pt x="1037" y="528"/>
                  </a:lnTo>
                  <a:lnTo>
                    <a:pt x="1037" y="768"/>
                  </a:lnTo>
                  <a:lnTo>
                    <a:pt x="845" y="768"/>
                  </a:lnTo>
                  <a:lnTo>
                    <a:pt x="1229" y="960"/>
                  </a:lnTo>
                  <a:lnTo>
                    <a:pt x="1613" y="768"/>
                  </a:lnTo>
                  <a:lnTo>
                    <a:pt x="1421" y="768"/>
                  </a:lnTo>
                  <a:lnTo>
                    <a:pt x="1421" y="528"/>
                  </a:lnTo>
                  <a:cubicBezTo>
                    <a:pt x="1421" y="237"/>
                    <a:pt x="1185" y="0"/>
                    <a:pt x="893" y="0"/>
                  </a:cubicBezTo>
                  <a:lnTo>
                    <a:pt x="893" y="0"/>
                  </a:lnTo>
                  <a:lnTo>
                    <a:pt x="0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dde2c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89040" y="1652760"/>
              <a:ext cx="1081440" cy="615600"/>
            </a:xfrm>
            <a:custGeom>
              <a:avLst/>
              <a:gdLst/>
              <a:ahLst/>
              <a:rect l="l" t="t" r="r" b="b"/>
              <a:pathLst>
                <a:path w="1613" h="960">
                  <a:moveTo>
                    <a:pt x="0" y="384"/>
                  </a:moveTo>
                  <a:lnTo>
                    <a:pt x="893" y="384"/>
                  </a:lnTo>
                  <a:cubicBezTo>
                    <a:pt x="973" y="384"/>
                    <a:pt x="1037" y="449"/>
                    <a:pt x="1037" y="528"/>
                  </a:cubicBezTo>
                  <a:cubicBezTo>
                    <a:pt x="1037" y="528"/>
                    <a:pt x="1037" y="528"/>
                    <a:pt x="1037" y="528"/>
                  </a:cubicBezTo>
                  <a:lnTo>
                    <a:pt x="1037" y="528"/>
                  </a:lnTo>
                  <a:lnTo>
                    <a:pt x="1037" y="768"/>
                  </a:lnTo>
                  <a:lnTo>
                    <a:pt x="845" y="768"/>
                  </a:lnTo>
                  <a:lnTo>
                    <a:pt x="1229" y="960"/>
                  </a:lnTo>
                  <a:lnTo>
                    <a:pt x="1613" y="768"/>
                  </a:lnTo>
                  <a:lnTo>
                    <a:pt x="1421" y="768"/>
                  </a:lnTo>
                  <a:lnTo>
                    <a:pt x="1421" y="528"/>
                  </a:lnTo>
                  <a:cubicBezTo>
                    <a:pt x="1421" y="237"/>
                    <a:pt x="1185" y="0"/>
                    <a:pt x="893" y="0"/>
                  </a:cubicBezTo>
                  <a:lnTo>
                    <a:pt x="893" y="0"/>
                  </a:lnTo>
                  <a:lnTo>
                    <a:pt x="0" y="0"/>
                  </a:lnTo>
                  <a:lnTo>
                    <a:pt x="0" y="38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43120" y="2368440"/>
              <a:ext cx="1544760" cy="78768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43120" y="2368440"/>
              <a:ext cx="1544760" cy="7876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60560" y="2597040"/>
              <a:ext cx="1175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velop Pricing 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97200" y="2760840"/>
              <a:ext cx="127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nsure Lowest Pri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46720" y="2638440"/>
              <a:ext cx="874080" cy="517680"/>
            </a:xfrm>
            <a:custGeom>
              <a:avLst/>
              <a:gdLst/>
              <a:ahLst/>
              <a:rect l="l" t="t" r="r" b="b"/>
              <a:pathLst>
                <a:path w="1305" h="807">
                  <a:moveTo>
                    <a:pt x="0" y="384"/>
                  </a:moveTo>
                  <a:lnTo>
                    <a:pt x="585" y="384"/>
                  </a:lnTo>
                  <a:cubicBezTo>
                    <a:pt x="665" y="384"/>
                    <a:pt x="729" y="449"/>
                    <a:pt x="729" y="528"/>
                  </a:cubicBezTo>
                  <a:cubicBezTo>
                    <a:pt x="729" y="528"/>
                    <a:pt x="729" y="528"/>
                    <a:pt x="729" y="528"/>
                  </a:cubicBezTo>
                  <a:lnTo>
                    <a:pt x="729" y="615"/>
                  </a:lnTo>
                  <a:lnTo>
                    <a:pt x="537" y="615"/>
                  </a:lnTo>
                  <a:lnTo>
                    <a:pt x="921" y="807"/>
                  </a:lnTo>
                  <a:lnTo>
                    <a:pt x="1305" y="615"/>
                  </a:lnTo>
                  <a:lnTo>
                    <a:pt x="1113" y="615"/>
                  </a:lnTo>
                  <a:lnTo>
                    <a:pt x="1113" y="528"/>
                  </a:lnTo>
                  <a:cubicBezTo>
                    <a:pt x="1113" y="237"/>
                    <a:pt x="877" y="0"/>
                    <a:pt x="585" y="0"/>
                  </a:cubicBezTo>
                  <a:lnTo>
                    <a:pt x="585" y="0"/>
                  </a:lnTo>
                  <a:lnTo>
                    <a:pt x="0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dde2c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46720" y="2638440"/>
              <a:ext cx="874080" cy="517680"/>
            </a:xfrm>
            <a:custGeom>
              <a:avLst/>
              <a:gdLst/>
              <a:ahLst/>
              <a:rect l="l" t="t" r="r" b="b"/>
              <a:pathLst>
                <a:path w="1305" h="807">
                  <a:moveTo>
                    <a:pt x="0" y="384"/>
                  </a:moveTo>
                  <a:lnTo>
                    <a:pt x="585" y="384"/>
                  </a:lnTo>
                  <a:cubicBezTo>
                    <a:pt x="665" y="384"/>
                    <a:pt x="729" y="449"/>
                    <a:pt x="729" y="528"/>
                  </a:cubicBezTo>
                  <a:cubicBezTo>
                    <a:pt x="729" y="528"/>
                    <a:pt x="729" y="528"/>
                    <a:pt x="729" y="528"/>
                  </a:cubicBezTo>
                  <a:lnTo>
                    <a:pt x="729" y="615"/>
                  </a:lnTo>
                  <a:lnTo>
                    <a:pt x="537" y="615"/>
                  </a:lnTo>
                  <a:lnTo>
                    <a:pt x="921" y="807"/>
                  </a:lnTo>
                  <a:lnTo>
                    <a:pt x="1305" y="615"/>
                  </a:lnTo>
                  <a:lnTo>
                    <a:pt x="1113" y="615"/>
                  </a:lnTo>
                  <a:lnTo>
                    <a:pt x="1113" y="528"/>
                  </a:lnTo>
                  <a:cubicBezTo>
                    <a:pt x="1113" y="237"/>
                    <a:pt x="877" y="0"/>
                    <a:pt x="585" y="0"/>
                  </a:cubicBezTo>
                  <a:lnTo>
                    <a:pt x="585" y="0"/>
                  </a:lnTo>
                  <a:lnTo>
                    <a:pt x="0" y="0"/>
                  </a:lnTo>
                  <a:lnTo>
                    <a:pt x="0" y="38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42320" y="3352680"/>
              <a:ext cx="850680" cy="612720"/>
            </a:xfrm>
            <a:custGeom>
              <a:avLst/>
              <a:gdLst/>
              <a:ahLst/>
              <a:rect l="l" t="t" r="r" b="b"/>
              <a:pathLst>
                <a:path w="1267" h="953">
                  <a:moveTo>
                    <a:pt x="883" y="0"/>
                  </a:moveTo>
                  <a:lnTo>
                    <a:pt x="883" y="201"/>
                  </a:lnTo>
                  <a:cubicBezTo>
                    <a:pt x="883" y="285"/>
                    <a:pt x="817" y="354"/>
                    <a:pt x="733" y="357"/>
                  </a:cubicBezTo>
                  <a:lnTo>
                    <a:pt x="185" y="377"/>
                  </a:lnTo>
                  <a:lnTo>
                    <a:pt x="178" y="185"/>
                  </a:lnTo>
                  <a:lnTo>
                    <a:pt x="0" y="576"/>
                  </a:lnTo>
                  <a:lnTo>
                    <a:pt x="206" y="953"/>
                  </a:lnTo>
                  <a:lnTo>
                    <a:pt x="199" y="761"/>
                  </a:lnTo>
                  <a:lnTo>
                    <a:pt x="746" y="741"/>
                  </a:lnTo>
                  <a:cubicBezTo>
                    <a:pt x="1037" y="731"/>
                    <a:pt x="1267" y="492"/>
                    <a:pt x="1267" y="201"/>
                  </a:cubicBezTo>
                  <a:lnTo>
                    <a:pt x="1267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dde2c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42320" y="3352680"/>
              <a:ext cx="850680" cy="612720"/>
            </a:xfrm>
            <a:custGeom>
              <a:avLst/>
              <a:gdLst/>
              <a:ahLst/>
              <a:rect l="l" t="t" r="r" b="b"/>
              <a:pathLst>
                <a:path w="1267" h="953">
                  <a:moveTo>
                    <a:pt x="883" y="0"/>
                  </a:moveTo>
                  <a:lnTo>
                    <a:pt x="883" y="201"/>
                  </a:lnTo>
                  <a:cubicBezTo>
                    <a:pt x="883" y="285"/>
                    <a:pt x="817" y="354"/>
                    <a:pt x="733" y="357"/>
                  </a:cubicBezTo>
                  <a:lnTo>
                    <a:pt x="185" y="377"/>
                  </a:lnTo>
                  <a:lnTo>
                    <a:pt x="178" y="185"/>
                  </a:lnTo>
                  <a:lnTo>
                    <a:pt x="0" y="576"/>
                  </a:lnTo>
                  <a:lnTo>
                    <a:pt x="206" y="953"/>
                  </a:lnTo>
                  <a:lnTo>
                    <a:pt x="199" y="761"/>
                  </a:lnTo>
                  <a:lnTo>
                    <a:pt x="746" y="741"/>
                  </a:lnTo>
                  <a:cubicBezTo>
                    <a:pt x="1037" y="731"/>
                    <a:pt x="1267" y="492"/>
                    <a:pt x="1267" y="201"/>
                  </a:cubicBezTo>
                  <a:lnTo>
                    <a:pt x="1267" y="0"/>
                  </a:lnTo>
                  <a:lnTo>
                    <a:pt x="883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3120" y="3451320"/>
              <a:ext cx="1544760" cy="157788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3120" y="3451320"/>
              <a:ext cx="1544760" cy="15778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50120" y="352116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TO Reviews for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57120" y="368460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Complian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0640" y="4497480"/>
              <a:ext cx="114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Lowest Price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99320" y="4732200"/>
              <a:ext cx="42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Wi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9360" y="3944880"/>
              <a:ext cx="51408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77" y="0"/>
                  </a:moveTo>
                  <a:lnTo>
                    <a:pt x="77" y="232"/>
                  </a:lnTo>
                  <a:lnTo>
                    <a:pt x="0" y="232"/>
                  </a:lnTo>
                  <a:lnTo>
                    <a:pt x="155" y="310"/>
                  </a:lnTo>
                  <a:lnTo>
                    <a:pt x="310" y="232"/>
                  </a:lnTo>
                  <a:lnTo>
                    <a:pt x="232" y="232"/>
                  </a:lnTo>
                  <a:lnTo>
                    <a:pt x="232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487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9360" y="3944880"/>
              <a:ext cx="51408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77" y="0"/>
                  </a:moveTo>
                  <a:lnTo>
                    <a:pt x="77" y="232"/>
                  </a:lnTo>
                  <a:lnTo>
                    <a:pt x="0" y="232"/>
                  </a:lnTo>
                  <a:lnTo>
                    <a:pt x="155" y="310"/>
                  </a:lnTo>
                  <a:lnTo>
                    <a:pt x="310" y="232"/>
                  </a:lnTo>
                  <a:lnTo>
                    <a:pt x="232" y="232"/>
                  </a:lnTo>
                  <a:lnTo>
                    <a:pt x="232" y="0"/>
                  </a:lnTo>
                  <a:lnTo>
                    <a:pt x="77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67240" y="3649680"/>
              <a:ext cx="618840" cy="1133280"/>
            </a:xfrm>
            <a:custGeom>
              <a:avLst/>
              <a:gdLst/>
              <a:ahLst/>
              <a:rect l="l" t="t" r="r" b="b"/>
              <a:pathLst>
                <a:path w="373" h="714">
                  <a:moveTo>
                    <a:pt x="373" y="178"/>
                  </a:moveTo>
                  <a:lnTo>
                    <a:pt x="124" y="178"/>
                  </a:lnTo>
                  <a:lnTo>
                    <a:pt x="124" y="0"/>
                  </a:lnTo>
                  <a:lnTo>
                    <a:pt x="0" y="357"/>
                  </a:lnTo>
                  <a:lnTo>
                    <a:pt x="124" y="714"/>
                  </a:lnTo>
                  <a:lnTo>
                    <a:pt x="124" y="535"/>
                  </a:lnTo>
                  <a:lnTo>
                    <a:pt x="373" y="535"/>
                  </a:lnTo>
                  <a:lnTo>
                    <a:pt x="373" y="178"/>
                  </a:lnTo>
                  <a:close/>
                </a:path>
              </a:pathLst>
            </a:cu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67240" y="3649680"/>
              <a:ext cx="618840" cy="1133280"/>
            </a:xfrm>
            <a:custGeom>
              <a:avLst/>
              <a:gdLst/>
              <a:ahLst/>
              <a:rect l="l" t="t" r="r" b="b"/>
              <a:pathLst>
                <a:path w="373" h="714">
                  <a:moveTo>
                    <a:pt x="373" y="178"/>
                  </a:moveTo>
                  <a:lnTo>
                    <a:pt x="124" y="178"/>
                  </a:lnTo>
                  <a:lnTo>
                    <a:pt x="124" y="0"/>
                  </a:lnTo>
                  <a:lnTo>
                    <a:pt x="0" y="357"/>
                  </a:lnTo>
                  <a:lnTo>
                    <a:pt x="124" y="714"/>
                  </a:lnTo>
                  <a:lnTo>
                    <a:pt x="124" y="535"/>
                  </a:lnTo>
                  <a:lnTo>
                    <a:pt x="373" y="535"/>
                  </a:lnTo>
                  <a:lnTo>
                    <a:pt x="373" y="17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17280" y="3551400"/>
              <a:ext cx="1544040" cy="157608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17280" y="3551400"/>
              <a:ext cx="1544040" cy="1576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9720" y="3767040"/>
              <a:ext cx="1254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nter “Discussions”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67040" y="393228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here contract pric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67040" y="409572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n be  increased 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92200" y="4260960"/>
              <a:ext cx="41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liv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55880" y="4424400"/>
              <a:ext cx="1319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functionality they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29320" y="4587840"/>
              <a:ext cx="1177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tually need  and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52440" y="4753080"/>
              <a:ext cx="88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rease profi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92520" y="3649680"/>
              <a:ext cx="618840" cy="1133280"/>
            </a:xfrm>
            <a:custGeom>
              <a:avLst/>
              <a:gdLst/>
              <a:ahLst/>
              <a:rect l="l" t="t" r="r" b="b"/>
              <a:pathLst>
                <a:path w="373" h="714">
                  <a:moveTo>
                    <a:pt x="373" y="178"/>
                  </a:moveTo>
                  <a:lnTo>
                    <a:pt x="124" y="178"/>
                  </a:lnTo>
                  <a:lnTo>
                    <a:pt x="124" y="0"/>
                  </a:lnTo>
                  <a:lnTo>
                    <a:pt x="0" y="357"/>
                  </a:lnTo>
                  <a:lnTo>
                    <a:pt x="124" y="714"/>
                  </a:lnTo>
                  <a:lnTo>
                    <a:pt x="124" y="535"/>
                  </a:lnTo>
                  <a:lnTo>
                    <a:pt x="373" y="535"/>
                  </a:lnTo>
                  <a:lnTo>
                    <a:pt x="373" y="178"/>
                  </a:lnTo>
                  <a:close/>
                </a:path>
              </a:pathLst>
            </a:cu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92520" y="3649680"/>
              <a:ext cx="618840" cy="1133280"/>
            </a:xfrm>
            <a:custGeom>
              <a:avLst/>
              <a:gdLst/>
              <a:ahLst/>
              <a:rect l="l" t="t" r="r" b="b"/>
              <a:pathLst>
                <a:path w="373" h="714">
                  <a:moveTo>
                    <a:pt x="373" y="178"/>
                  </a:moveTo>
                  <a:lnTo>
                    <a:pt x="124" y="178"/>
                  </a:lnTo>
                  <a:lnTo>
                    <a:pt x="124" y="0"/>
                  </a:lnTo>
                  <a:lnTo>
                    <a:pt x="0" y="357"/>
                  </a:lnTo>
                  <a:lnTo>
                    <a:pt x="124" y="714"/>
                  </a:lnTo>
                  <a:lnTo>
                    <a:pt x="124" y="535"/>
                  </a:lnTo>
                  <a:lnTo>
                    <a:pt x="373" y="535"/>
                  </a:lnTo>
                  <a:lnTo>
                    <a:pt x="373" y="17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3360" y="4635360"/>
              <a:ext cx="1673640" cy="122400"/>
            </a:xfrm>
            <a:custGeom>
              <a:avLst/>
              <a:gdLst/>
              <a:ahLst/>
              <a:rect l="l" t="t" r="r" b="b"/>
              <a:pathLst>
                <a:path w="1009" h="77">
                  <a:moveTo>
                    <a:pt x="931" y="0"/>
                  </a:moveTo>
                  <a:lnTo>
                    <a:pt x="0" y="0"/>
                  </a:lnTo>
                  <a:lnTo>
                    <a:pt x="78" y="77"/>
                  </a:lnTo>
                  <a:lnTo>
                    <a:pt x="1009" y="77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da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3360" y="4635360"/>
              <a:ext cx="1673640" cy="122400"/>
            </a:xfrm>
            <a:custGeom>
              <a:avLst/>
              <a:gdLst/>
              <a:ahLst/>
              <a:rect l="l" t="t" r="r" b="b"/>
              <a:pathLst>
                <a:path w="1009" h="77">
                  <a:moveTo>
                    <a:pt x="931" y="0"/>
                  </a:moveTo>
                  <a:lnTo>
                    <a:pt x="0" y="0"/>
                  </a:lnTo>
                  <a:lnTo>
                    <a:pt x="78" y="77"/>
                  </a:lnTo>
                  <a:lnTo>
                    <a:pt x="1009" y="77"/>
                  </a:lnTo>
                  <a:lnTo>
                    <a:pt x="93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27760" y="3649680"/>
              <a:ext cx="129240" cy="1108080"/>
            </a:xfrm>
            <a:custGeom>
              <a:avLst/>
              <a:gdLst/>
              <a:ahLst/>
              <a:rect l="l" t="t" r="r" b="b"/>
              <a:pathLst>
                <a:path w="78" h="698">
                  <a:moveTo>
                    <a:pt x="78" y="698"/>
                  </a:moveTo>
                  <a:lnTo>
                    <a:pt x="0" y="621"/>
                  </a:lnTo>
                  <a:lnTo>
                    <a:pt x="0" y="0"/>
                  </a:lnTo>
                  <a:lnTo>
                    <a:pt x="78" y="77"/>
                  </a:lnTo>
                  <a:lnTo>
                    <a:pt x="78" y="698"/>
                  </a:lnTo>
                  <a:close/>
                </a:path>
              </a:pathLst>
            </a:custGeom>
            <a:solidFill>
              <a:srgbClr val="da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27760" y="3649680"/>
              <a:ext cx="129240" cy="1108080"/>
            </a:xfrm>
            <a:custGeom>
              <a:avLst/>
              <a:gdLst/>
              <a:ahLst/>
              <a:rect l="l" t="t" r="r" b="b"/>
              <a:pathLst>
                <a:path w="78" h="698">
                  <a:moveTo>
                    <a:pt x="78" y="698"/>
                  </a:moveTo>
                  <a:lnTo>
                    <a:pt x="0" y="621"/>
                  </a:lnTo>
                  <a:lnTo>
                    <a:pt x="0" y="0"/>
                  </a:lnTo>
                  <a:lnTo>
                    <a:pt x="78" y="77"/>
                  </a:lnTo>
                  <a:lnTo>
                    <a:pt x="78" y="69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3360" y="3649680"/>
              <a:ext cx="1544040" cy="98568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3360" y="3649680"/>
              <a:ext cx="1544040" cy="9856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02600" y="404496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78880" y="4930920"/>
              <a:ext cx="902160" cy="1231920"/>
            </a:xfrm>
            <a:custGeom>
              <a:avLst/>
              <a:gdLst/>
              <a:ahLst/>
              <a:rect l="l" t="t" r="r" b="b"/>
              <a:pathLst>
                <a:path w="1344" h="1920">
                  <a:moveTo>
                    <a:pt x="0" y="0"/>
                  </a:moveTo>
                  <a:lnTo>
                    <a:pt x="0" y="1200"/>
                  </a:lnTo>
                  <a:cubicBezTo>
                    <a:pt x="0" y="1492"/>
                    <a:pt x="236" y="1728"/>
                    <a:pt x="528" y="1728"/>
                  </a:cubicBezTo>
                  <a:cubicBezTo>
                    <a:pt x="528" y="1728"/>
                    <a:pt x="528" y="1728"/>
                    <a:pt x="528" y="1728"/>
                  </a:cubicBezTo>
                  <a:lnTo>
                    <a:pt x="528" y="1728"/>
                  </a:lnTo>
                  <a:lnTo>
                    <a:pt x="1152" y="1728"/>
                  </a:lnTo>
                  <a:lnTo>
                    <a:pt x="1152" y="1920"/>
                  </a:lnTo>
                  <a:lnTo>
                    <a:pt x="1344" y="1536"/>
                  </a:lnTo>
                  <a:lnTo>
                    <a:pt x="1152" y="1152"/>
                  </a:lnTo>
                  <a:lnTo>
                    <a:pt x="1152" y="1344"/>
                  </a:lnTo>
                  <a:lnTo>
                    <a:pt x="528" y="1344"/>
                  </a:lnTo>
                  <a:cubicBezTo>
                    <a:pt x="448" y="1344"/>
                    <a:pt x="384" y="1280"/>
                    <a:pt x="384" y="1200"/>
                  </a:cubicBez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2c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78880" y="4930920"/>
              <a:ext cx="902160" cy="1231920"/>
            </a:xfrm>
            <a:custGeom>
              <a:avLst/>
              <a:gdLst/>
              <a:ahLst/>
              <a:rect l="l" t="t" r="r" b="b"/>
              <a:pathLst>
                <a:path w="1344" h="1920">
                  <a:moveTo>
                    <a:pt x="0" y="0"/>
                  </a:moveTo>
                  <a:lnTo>
                    <a:pt x="0" y="1200"/>
                  </a:lnTo>
                  <a:cubicBezTo>
                    <a:pt x="0" y="1492"/>
                    <a:pt x="236" y="1728"/>
                    <a:pt x="528" y="1728"/>
                  </a:cubicBezTo>
                  <a:cubicBezTo>
                    <a:pt x="528" y="1728"/>
                    <a:pt x="528" y="1728"/>
                    <a:pt x="528" y="1728"/>
                  </a:cubicBezTo>
                  <a:lnTo>
                    <a:pt x="528" y="1728"/>
                  </a:lnTo>
                  <a:lnTo>
                    <a:pt x="1152" y="1728"/>
                  </a:lnTo>
                  <a:lnTo>
                    <a:pt x="1152" y="1920"/>
                  </a:lnTo>
                  <a:lnTo>
                    <a:pt x="1344" y="1536"/>
                  </a:lnTo>
                  <a:lnTo>
                    <a:pt x="1152" y="1152"/>
                  </a:lnTo>
                  <a:lnTo>
                    <a:pt x="1152" y="1344"/>
                  </a:lnTo>
                  <a:lnTo>
                    <a:pt x="528" y="1344"/>
                  </a:lnTo>
                  <a:cubicBezTo>
                    <a:pt x="448" y="1344"/>
                    <a:pt x="384" y="1280"/>
                    <a:pt x="384" y="1200"/>
                  </a:cubicBez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44000" y="6310440"/>
              <a:ext cx="5021640" cy="123840"/>
            </a:xfrm>
            <a:custGeom>
              <a:avLst/>
              <a:gdLst/>
              <a:ahLst/>
              <a:rect l="l" t="t" r="r" b="b"/>
              <a:pathLst>
                <a:path w="3027" h="78">
                  <a:moveTo>
                    <a:pt x="2949" y="0"/>
                  </a:moveTo>
                  <a:lnTo>
                    <a:pt x="0" y="0"/>
                  </a:lnTo>
                  <a:lnTo>
                    <a:pt x="78" y="78"/>
                  </a:lnTo>
                  <a:lnTo>
                    <a:pt x="3027" y="78"/>
                  </a:lnTo>
                  <a:lnTo>
                    <a:pt x="2949" y="0"/>
                  </a:lnTo>
                  <a:close/>
                </a:path>
              </a:pathLst>
            </a:custGeom>
            <a:solidFill>
              <a:srgbClr val="da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44000" y="6310440"/>
              <a:ext cx="5021640" cy="123840"/>
            </a:xfrm>
            <a:custGeom>
              <a:avLst/>
              <a:gdLst/>
              <a:ahLst/>
              <a:rect l="l" t="t" r="r" b="b"/>
              <a:pathLst>
                <a:path w="3027" h="78">
                  <a:moveTo>
                    <a:pt x="2949" y="0"/>
                  </a:moveTo>
                  <a:lnTo>
                    <a:pt x="0" y="0"/>
                  </a:lnTo>
                  <a:lnTo>
                    <a:pt x="78" y="78"/>
                  </a:lnTo>
                  <a:lnTo>
                    <a:pt x="3027" y="78"/>
                  </a:lnTo>
                  <a:lnTo>
                    <a:pt x="2949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36400" y="5324400"/>
              <a:ext cx="129240" cy="1109880"/>
            </a:xfrm>
            <a:custGeom>
              <a:avLst/>
              <a:gdLst/>
              <a:ahLst/>
              <a:rect l="l" t="t" r="r" b="b"/>
              <a:pathLst>
                <a:path w="78" h="699">
                  <a:moveTo>
                    <a:pt x="78" y="699"/>
                  </a:moveTo>
                  <a:lnTo>
                    <a:pt x="0" y="621"/>
                  </a:lnTo>
                  <a:lnTo>
                    <a:pt x="0" y="0"/>
                  </a:lnTo>
                  <a:lnTo>
                    <a:pt x="78" y="78"/>
                  </a:lnTo>
                  <a:lnTo>
                    <a:pt x="78" y="699"/>
                  </a:lnTo>
                  <a:close/>
                </a:path>
              </a:pathLst>
            </a:custGeom>
            <a:solidFill>
              <a:srgbClr val="da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36400" y="5324400"/>
              <a:ext cx="129240" cy="1109880"/>
            </a:xfrm>
            <a:custGeom>
              <a:avLst/>
              <a:gdLst/>
              <a:ahLst/>
              <a:rect l="l" t="t" r="r" b="b"/>
              <a:pathLst>
                <a:path w="78" h="699">
                  <a:moveTo>
                    <a:pt x="78" y="699"/>
                  </a:moveTo>
                  <a:lnTo>
                    <a:pt x="0" y="621"/>
                  </a:lnTo>
                  <a:lnTo>
                    <a:pt x="0" y="0"/>
                  </a:lnTo>
                  <a:lnTo>
                    <a:pt x="78" y="78"/>
                  </a:lnTo>
                  <a:lnTo>
                    <a:pt x="78" y="699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44000" y="5324400"/>
              <a:ext cx="4892400" cy="98604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44000" y="5324400"/>
              <a:ext cx="4892400" cy="9860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3320" y="5626080"/>
              <a:ext cx="383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portunities also exist for additional revenue base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69840" y="5819760"/>
              <a:ext cx="385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n NATO not meeting assumptions stated in contrac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D35-F1B6-489F-9AA1-E221568524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Bid Bonds/ Performance Bonds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 Liquidated Damage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3184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Bond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What are the costs associated with Money tied up in bonds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What are the opportunity costs in tying up the credit lin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Who should bear these cos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1676520"/>
            <a:ext cx="43434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Liquidated Damag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Tech has never incurred any NATO related Liquidated Da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the last 25 years NATO has not imposed any Liquidated Damages on a contr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we are mismanaging a project and Liquidated Damages are imposed we have bigger problems than the Liquidated Da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511-EDF9-4E8C-ACFE-EF1E73BA40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European Union (EU) Subs/Consultant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2270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Sub- contractors/ Consultan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We need legal review of our US contracts being used in the EU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Are they Binding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Do we need to rewrit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1676520"/>
            <a:ext cx="43434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Why Sub/Consultant heav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TO European Union Nationals are already authorized to work in EU countries – No work visa’s requir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sidering our Wrap rates it is much more profitable to use Subs/Consultants while incurring  lower start-up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y NATO contracts begin with only a 3-month commitment and we can not incur the start up cost of bringing over a U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E2A-18CE-45BB-9A7E-D433515AEC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Export Control Complianc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25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Importanc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MGSC fully understands the liabilities involved and takes appropriate measures to insure Mantech is in complianc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676520"/>
            <a:ext cx="43434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Corporate Review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GSC gets corporate review and stance on all NATO propo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me reviews have been performed by outside parties at Gaert Sime’s requ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GSC contract staff, in conjunction with corporate, has successfully obtained for various contrac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A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SP 73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SP 5’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4EF-4320-48A8-94B0-548C74C2DD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4:53:33Z</dcterms:created>
  <dc:creator>T.I. WEINTRAUB</dc:creator>
  <dc:description/>
  <dc:language>en-US</dc:language>
  <cp:lastModifiedBy>My PC</cp:lastModifiedBy>
  <dcterms:modified xsi:type="dcterms:W3CDTF">2009-01-22T18:36:15Z</dcterms:modified>
  <cp:revision>72</cp:revision>
  <dc:subject/>
  <dc:title>Developing A New Market</dc:title>
</cp:coreProperties>
</file>